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596A-F057-4CAF-A456-D4856D84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9C74-4BCE-4A6A-BB4E-BB24D95D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0413-966C-4ACD-B056-AAD615159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ECB-1EA6-44BB-9B8B-8FA2E4C1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C1A-7108-4A17-AC27-92822EC5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5ED-0C20-4391-BC4F-9FF586D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CE4-7DD1-4E46-BF95-79294F46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B09-B1EF-46E1-ABB9-E09A04E3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CF8-D43D-4A92-A531-32E6B600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979-DDE0-48E5-969D-D551C88D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A5E-B3AE-48EB-835A-62ECF523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7FD-D8E5-4804-84EC-1F43C0DA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778-45CE-49F3-8BB9-BC4E5F8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3A6-2FF0-4895-8279-BFFB0673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FB9-2016-4B30-ACFF-6CF8103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3782-0FB2-487D-A1B6-4CF4B596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F-grid 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 Han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Jan.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2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F-grid approach (rec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unified access framework for NOAA gridd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ocus: gridded data.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mature data standards, network protocols, and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 a well-maintained collection linked by a THREDDS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 popular clients (both desktop and 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the best metadata we reasonably c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don’t stop the show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the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success: add profiles and time series; add non-NOAA data; improved metadata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been accomplishe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secure, version-controlled mechanism for UAF tech members collaboratively to add elements to THREDDS catalog (a hass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adding of sites, editing, improv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 the resultant catalog at a public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erret.pmel.noaa.gov/thredds/geoideCatalog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ent cata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324320" cy="508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102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10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D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0102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38680" y="3200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709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512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9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DC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709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804080" y="3200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800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fer to the present version as the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raw catalo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0"/>
          <p:cNvSpPr/>
          <p:nvPr/>
        </p:nvSpPr>
        <p:spPr>
          <a:xfrm>
            <a:off x="2895480" y="3809880"/>
            <a:ext cx="685800" cy="1067040"/>
          </a:xfrm>
          <a:prstGeom prst="rect">
            <a:avLst/>
          </a:prstGeom>
          <a:solidFill>
            <a:srgbClr val="f3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1808280" y="3232080"/>
            <a:ext cx="990360" cy="1143000"/>
          </a:xfrm>
          <a:prstGeom prst="rect">
            <a:avLst/>
          </a:prstGeom>
          <a:solidFill>
            <a:srgbClr val="ffe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2"/>
          <p:cNvSpPr/>
          <p:nvPr/>
        </p:nvSpPr>
        <p:spPr>
          <a:xfrm>
            <a:off x="5715000" y="4213080"/>
            <a:ext cx="279360" cy="1121040"/>
          </a:xfrm>
          <a:prstGeom prst="rect">
            <a:avLst/>
          </a:prstGeom>
          <a:solidFill>
            <a:srgbClr val="ffe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7"/>
          <p:cNvGrpSpPr/>
          <p:nvPr/>
        </p:nvGrpSpPr>
        <p:grpSpPr>
          <a:xfrm>
            <a:off x="1969560" y="2286000"/>
            <a:ext cx="1839960" cy="2644920"/>
            <a:chOff x="1969560" y="2286000"/>
            <a:chExt cx="1839960" cy="2644920"/>
          </a:xfrm>
        </p:grpSpPr>
        <p:sp>
          <p:nvSpPr>
            <p:cNvPr id="87" name="Line 4"/>
            <p:cNvSpPr/>
            <p:nvPr/>
          </p:nvSpPr>
          <p:spPr>
            <a:xfrm>
              <a:off x="2308320" y="3124080"/>
              <a:ext cx="11430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2841480" y="2666880"/>
              <a:ext cx="0" cy="4572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308320" y="31240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3451320" y="31240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2057400" y="3352680"/>
              <a:ext cx="457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3222720" y="3352680"/>
              <a:ext cx="457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0797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23083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5369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36799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>
              <a:off x="3222720" y="3352680"/>
              <a:ext cx="0" cy="53352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2994120" y="3886200"/>
              <a:ext cx="457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2994120" y="388620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7"/>
            <p:cNvSpPr/>
            <p:nvPr/>
          </p:nvSpPr>
          <p:spPr>
            <a:xfrm>
              <a:off x="3451320" y="388620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2155680" y="2286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Sit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 rot="5400000">
              <a:off x="1673280" y="38422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 rot="5400000">
              <a:off x="1895760" y="38552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 rot="5400000">
              <a:off x="2115000" y="38440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 rot="5400000">
              <a:off x="2592360" y="43884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3"/>
            <p:cNvSpPr/>
            <p:nvPr/>
          </p:nvSpPr>
          <p:spPr>
            <a:xfrm rot="5400000">
              <a:off x="3049560" y="43884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 rot="5400000">
              <a:off x="3267000" y="38232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8"/>
          <p:cNvGrpSpPr/>
          <p:nvPr/>
        </p:nvGrpSpPr>
        <p:grpSpPr>
          <a:xfrm>
            <a:off x="5293800" y="2286000"/>
            <a:ext cx="1640160" cy="3138480"/>
            <a:chOff x="5293800" y="2286000"/>
            <a:chExt cx="1640160" cy="3138480"/>
          </a:xfrm>
        </p:grpSpPr>
        <p:sp>
          <p:nvSpPr>
            <p:cNvPr id="109" name="Line 25"/>
            <p:cNvSpPr/>
            <p:nvPr/>
          </p:nvSpPr>
          <p:spPr>
            <a:xfrm>
              <a:off x="5632560" y="3124080"/>
              <a:ext cx="114300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6165720" y="2666880"/>
              <a:ext cx="0" cy="4572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>
              <a:off x="5632560" y="31240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>
              <a:off x="6775560" y="31240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9"/>
            <p:cNvSpPr/>
            <p:nvPr/>
          </p:nvSpPr>
          <p:spPr>
            <a:xfrm>
              <a:off x="5381640" y="3352680"/>
              <a:ext cx="45720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1"/>
            <p:cNvSpPr/>
            <p:nvPr/>
          </p:nvSpPr>
          <p:spPr>
            <a:xfrm>
              <a:off x="5403960" y="33526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3"/>
            <p:cNvSpPr/>
            <p:nvPr/>
          </p:nvSpPr>
          <p:spPr>
            <a:xfrm>
              <a:off x="5861160" y="33526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5622840" y="3367080"/>
              <a:ext cx="0" cy="101268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5398920" y="4379760"/>
              <a:ext cx="45720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>
              <a:off x="5398920" y="437976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>
              <a:off x="5856120" y="437976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9"/>
            <p:cNvSpPr/>
            <p:nvPr/>
          </p:nvSpPr>
          <p:spPr>
            <a:xfrm>
              <a:off x="5479920" y="2286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Sit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0"/>
            <p:cNvSpPr/>
            <p:nvPr/>
          </p:nvSpPr>
          <p:spPr>
            <a:xfrm rot="5400000">
              <a:off x="4997520" y="38422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2"/>
            <p:cNvSpPr/>
            <p:nvPr/>
          </p:nvSpPr>
          <p:spPr>
            <a:xfrm rot="5400000">
              <a:off x="5439240" y="38440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3"/>
            <p:cNvSpPr/>
            <p:nvPr/>
          </p:nvSpPr>
          <p:spPr>
            <a:xfrm rot="5400000">
              <a:off x="4997880" y="48823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4"/>
            <p:cNvSpPr/>
            <p:nvPr/>
          </p:nvSpPr>
          <p:spPr>
            <a:xfrm rot="5400000">
              <a:off x="5438880" y="48693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5"/>
            <p:cNvSpPr/>
            <p:nvPr/>
          </p:nvSpPr>
          <p:spPr>
            <a:xfrm rot="5400000">
              <a:off x="6391800" y="36457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46"/>
          <p:cNvSpPr/>
          <p:nvPr/>
        </p:nvSpPr>
        <p:spPr>
          <a:xfrm>
            <a:off x="3809880" y="990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7"/>
          <p:cNvSpPr/>
          <p:nvPr/>
        </p:nvSpPr>
        <p:spPr>
          <a:xfrm>
            <a:off x="4038480" y="1905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8"/>
          <p:cNvSpPr/>
          <p:nvPr/>
        </p:nvSpPr>
        <p:spPr>
          <a:xfrm>
            <a:off x="4572000" y="1447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>
            <a:off x="4038480" y="1905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>
            <a:off x="5181480" y="1905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5"/>
          <p:cNvSpPr/>
          <p:nvPr/>
        </p:nvSpPr>
        <p:spPr>
          <a:xfrm>
            <a:off x="2819520" y="2133720"/>
            <a:ext cx="1218960" cy="5331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cubicBezTo>
                  <a:pt x="736" y="92"/>
                  <a:pt x="704" y="184"/>
                  <a:pt x="576" y="240"/>
                </a:cubicBezTo>
                <a:cubicBezTo>
                  <a:pt x="448" y="296"/>
                  <a:pt x="224" y="316"/>
                  <a:pt x="0" y="33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7"/>
          <p:cNvSpPr/>
          <p:nvPr/>
        </p:nvSpPr>
        <p:spPr>
          <a:xfrm>
            <a:off x="5105520" y="2133720"/>
            <a:ext cx="533160" cy="1003320"/>
          </a:xfrm>
          <a:custGeom>
            <a:avLst/>
            <a:gdLst>
              <a:gd name="textAreaLeft" fmla="*/ 0 w 533160"/>
              <a:gd name="textAreaRight" fmla="*/ 533520 w 5331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336" h="632">
                <a:moveTo>
                  <a:pt x="48" y="0"/>
                </a:moveTo>
                <a:cubicBezTo>
                  <a:pt x="24" y="212"/>
                  <a:pt x="0" y="424"/>
                  <a:pt x="48" y="528"/>
                </a:cubicBezTo>
                <a:cubicBezTo>
                  <a:pt x="96" y="632"/>
                  <a:pt x="216" y="628"/>
                  <a:pt x="336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3352680" y="388620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2"/>
          <p:cNvSpPr/>
          <p:nvPr/>
        </p:nvSpPr>
        <p:spPr>
          <a:xfrm rot="5400000">
            <a:off x="2951280" y="4388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3"/>
          <p:cNvSpPr/>
          <p:nvPr/>
        </p:nvSpPr>
        <p:spPr>
          <a:xfrm>
            <a:off x="3238560" y="388620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4"/>
          <p:cNvSpPr/>
          <p:nvPr/>
        </p:nvSpPr>
        <p:spPr>
          <a:xfrm rot="5400000">
            <a:off x="2836800" y="4388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5"/>
          <p:cNvSpPr/>
          <p:nvPr/>
        </p:nvSpPr>
        <p:spPr>
          <a:xfrm>
            <a:off x="3112920" y="388620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6"/>
          <p:cNvSpPr/>
          <p:nvPr/>
        </p:nvSpPr>
        <p:spPr>
          <a:xfrm rot="5400000">
            <a:off x="2711520" y="4388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2754360" y="30481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201132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223200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245268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315432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3600360" y="327672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533412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577224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6686640" y="30481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5315040" y="4286160"/>
            <a:ext cx="15228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772240" y="42973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raw”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457200" y="5486400"/>
            <a:ext cx="3581280" cy="533520"/>
          </a:xfrm>
          <a:prstGeom prst="rect">
            <a:avLst/>
          </a:prstGeom>
          <a:solidFill>
            <a:srgbClr val="ffe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netCDF-like, or non-gri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457200" y="6172200"/>
            <a:ext cx="3581280" cy="457200"/>
          </a:xfrm>
          <a:prstGeom prst="rect">
            <a:avLst/>
          </a:prstGeom>
          <a:solidFill>
            <a:srgbClr val="f3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need of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9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5"/>
          <p:cNvSpPr/>
          <p:nvPr/>
        </p:nvSpPr>
        <p:spPr>
          <a:xfrm>
            <a:off x="2830680" y="3687840"/>
            <a:ext cx="11430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363840" y="323064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973680" y="36878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745080" y="3916440"/>
            <a:ext cx="457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202280" y="39164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745080" y="3916440"/>
            <a:ext cx="0" cy="5331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2666880" y="2924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Sit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 rot="5400000">
            <a:off x="3351600" y="45396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</a:t>
            </a:r>
            <a:br>
              <a:rPr sz="1000"/>
            </a:b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Aggregated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 rot="5400000">
            <a:off x="3789720" y="4386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>
            <a:off x="5006880" y="3719520"/>
            <a:ext cx="1143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5540400" y="3262320"/>
            <a:ext cx="0" cy="4572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5006880" y="37195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6149880" y="37195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4756320" y="3948120"/>
            <a:ext cx="457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778280" y="39481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5235480" y="39481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4997520" y="3962520"/>
            <a:ext cx="0" cy="10126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5"/>
          <p:cNvSpPr/>
          <p:nvPr/>
        </p:nvSpPr>
        <p:spPr>
          <a:xfrm>
            <a:off x="4773600" y="4975200"/>
            <a:ext cx="457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4773600" y="497520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4834080" y="29242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Sit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 rot="5400000">
            <a:off x="4372920" y="4437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 rot="5400000">
            <a:off x="4813200" y="4439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 rot="5400000">
            <a:off x="4372560" y="5477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 rot="5400000">
            <a:off x="5766120" y="4240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3451320" y="17384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5"/>
          <p:cNvSpPr/>
          <p:nvPr/>
        </p:nvSpPr>
        <p:spPr>
          <a:xfrm>
            <a:off x="3375000" y="265284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6"/>
          <p:cNvSpPr/>
          <p:nvPr/>
        </p:nvSpPr>
        <p:spPr>
          <a:xfrm>
            <a:off x="4213080" y="219564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7"/>
          <p:cNvSpPr/>
          <p:nvPr/>
        </p:nvSpPr>
        <p:spPr>
          <a:xfrm>
            <a:off x="3375000" y="265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8"/>
          <p:cNvSpPr/>
          <p:nvPr/>
        </p:nvSpPr>
        <p:spPr>
          <a:xfrm>
            <a:off x="5562720" y="265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2"/>
          <p:cNvSpPr/>
          <p:nvPr/>
        </p:nvSpPr>
        <p:spPr>
          <a:xfrm>
            <a:off x="4689360" y="489888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3"/>
          <p:cNvSpPr/>
          <p:nvPr/>
        </p:nvSpPr>
        <p:spPr>
          <a:xfrm>
            <a:off x="4694400" y="3871800"/>
            <a:ext cx="15228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5135400" y="387180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6072120" y="364320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3886200" y="361476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7"/>
          <p:cNvSpPr/>
          <p:nvPr/>
        </p:nvSpPr>
        <p:spPr>
          <a:xfrm>
            <a:off x="3660840" y="383544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8"/>
          <p:cNvSpPr/>
          <p:nvPr/>
        </p:nvSpPr>
        <p:spPr>
          <a:xfrm>
            <a:off x="4127400" y="384192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clean”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6"/>
          <p:cNvSpPr/>
          <p:nvPr/>
        </p:nvSpPr>
        <p:spPr>
          <a:xfrm>
            <a:off x="3267000" y="358128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6"/>
          <p:cNvSpPr/>
          <p:nvPr/>
        </p:nvSpPr>
        <p:spPr>
          <a:xfrm>
            <a:off x="5464080" y="363708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raw” catalog is an XML highway map that links many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we discov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 proportion of fil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netCDF-like (e.g. CSV or image fil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gridded (e.g. 250K Argo profile fil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ded files in need of aggregation dominate (numerically) the ready-to-use CF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 will consolidate by x10-1000 the number of apparent datas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eer through a forest to see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create a clean catalo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696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eks from 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Web crawler sm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extraneous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need for 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aggreg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y, 5 months from 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ed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insid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 - in progr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add sites to the “raw catal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DC – creating data b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st got PMEL’s crawl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rawler smar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is Friday -- able to exclude 1D data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ext Friday -- outputs a clean catalog by dropping aggregatable data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nd of the month – clean catalog with auto-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arting at 3b –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clean catalo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39:59Z</dcterms:created>
  <dc:creator>steve hankin</dc:creator>
  <dc:description/>
  <dc:language>en-US</dc:language>
  <cp:lastModifiedBy>Steve Hankin</cp:lastModifiedBy>
  <dcterms:modified xsi:type="dcterms:W3CDTF">2010-01-13T18:00:11Z</dcterms:modified>
  <cp:revision>25</cp:revision>
  <dc:subject/>
  <dc:title>UAF-grid project status</dc:title>
</cp:coreProperties>
</file>